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245-23A4-4157-AE71-88AE4AA3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56C7-939B-4346-8E0E-DEFFAF66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B53-E985-46A4-AC97-1EF68641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423-1B41-4E98-A31C-7758FF40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342A-AEA6-4A82-9088-3B4AEF68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5556-26A8-41DD-94A3-75934C99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5123-8484-4D3F-9B64-C223CC7D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CA60-CC54-48FA-B875-F4B043CE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34BF-8C45-4D28-BB6A-76755145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9A42-8408-497A-8153-E2384F81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5156-BD1E-4B23-8AE1-6B37091C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1504-8D61-4F58-A53F-4808AF8D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2E53-F6B2-4582-B5E4-20EED101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8227-1025-4865-A699-5B3FD280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8D3C-BCFF-4684-BDF8-A87DBFF9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43E9-2F90-4507-99A0-A5D54C9A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6179-6D95-47AF-8845-3B62A468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D6D-1685-4640-866B-368F9437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2C4-E1C6-4194-9886-2EC92681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1A7-FD96-403F-B3D5-B48E96C6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E2B-D43F-4001-8C1A-B8483041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674-7301-48BF-BED1-C0E266D2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48A-858B-4D7E-914B-D24CE20B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C9E-2228-4696-B99D-E7D8748C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5D73-1ADC-42CF-A7D1-862D62D7B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F7E7-C0FE-49D0-9B27-4FD24FFAC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TEL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USEKEEP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5084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than clean ro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Group 24"/>
          <p:cNvGrpSpPr/>
          <p:nvPr/>
        </p:nvGrpSpPr>
        <p:grpSpPr>
          <a:xfrm>
            <a:off x="-12600" y="2898720"/>
            <a:ext cx="9188280" cy="836640"/>
            <a:chOff x="-12600" y="2898720"/>
            <a:chExt cx="9188280" cy="836640"/>
          </a:xfrm>
        </p:grpSpPr>
        <p:grpSp>
          <p:nvGrpSpPr>
            <p:cNvPr id="88" name="Group 22"/>
            <p:cNvGrpSpPr/>
            <p:nvPr/>
          </p:nvGrpSpPr>
          <p:grpSpPr>
            <a:xfrm>
              <a:off x="5040" y="2915280"/>
              <a:ext cx="9144000" cy="811440"/>
              <a:chOff x="5040" y="2915280"/>
              <a:chExt cx="9144000" cy="811440"/>
            </a:xfrm>
          </p:grpSpPr>
          <p:sp>
            <p:nvSpPr>
              <p:cNvPr id="89" name="Rectangle 19"/>
              <p:cNvSpPr/>
              <p:nvPr/>
            </p:nvSpPr>
            <p:spPr>
              <a:xfrm>
                <a:off x="5040" y="2915280"/>
                <a:ext cx="914400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Rectangle 21"/>
              <p:cNvSpPr/>
              <p:nvPr/>
            </p:nvSpPr>
            <p:spPr>
              <a:xfrm>
                <a:off x="5040" y="2915280"/>
                <a:ext cx="9099720" cy="81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1" name="Rectangle 23"/>
            <p:cNvSpPr/>
            <p:nvPr/>
          </p:nvSpPr>
          <p:spPr>
            <a:xfrm>
              <a:off x="-12600" y="2898720"/>
              <a:ext cx="9188280" cy="836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2" name="Group 30"/>
          <p:cNvGrpSpPr/>
          <p:nvPr/>
        </p:nvGrpSpPr>
        <p:grpSpPr>
          <a:xfrm>
            <a:off x="-12600" y="2898720"/>
            <a:ext cx="9188280" cy="836640"/>
            <a:chOff x="-12600" y="2898720"/>
            <a:chExt cx="9188280" cy="836640"/>
          </a:xfrm>
        </p:grpSpPr>
        <p:grpSp>
          <p:nvGrpSpPr>
            <p:cNvPr id="93" name="Group 28"/>
            <p:cNvGrpSpPr/>
            <p:nvPr/>
          </p:nvGrpSpPr>
          <p:grpSpPr>
            <a:xfrm>
              <a:off x="5040" y="2915280"/>
              <a:ext cx="9144000" cy="811440"/>
              <a:chOff x="5040" y="2915280"/>
              <a:chExt cx="9144000" cy="811440"/>
            </a:xfrm>
          </p:grpSpPr>
          <p:sp>
            <p:nvSpPr>
              <p:cNvPr id="94" name="Rectangle 25"/>
              <p:cNvSpPr/>
              <p:nvPr/>
            </p:nvSpPr>
            <p:spPr>
              <a:xfrm>
                <a:off x="5040" y="2915280"/>
                <a:ext cx="914400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Rectangle 27"/>
              <p:cNvSpPr/>
              <p:nvPr/>
            </p:nvSpPr>
            <p:spPr>
              <a:xfrm>
                <a:off x="5040" y="2915280"/>
                <a:ext cx="9099720" cy="81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6" name="Rectangle 29"/>
            <p:cNvSpPr/>
            <p:nvPr/>
          </p:nvSpPr>
          <p:spPr>
            <a:xfrm>
              <a:off x="-12600" y="2898720"/>
              <a:ext cx="9188280" cy="836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" name="Picture 31" descr="j0217872[1]"/>
          <p:cNvPicPr/>
          <p:nvPr/>
        </p:nvPicPr>
        <p:blipFill>
          <a:blip r:embed="rId1">
            <a:grayscl/>
          </a:blip>
          <a:stretch/>
        </p:blipFill>
        <p:spPr>
          <a:xfrm>
            <a:off x="5248440" y="3200400"/>
            <a:ext cx="2904840" cy="2921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mbs1.jpg"/>
          <p:cNvPicPr/>
          <p:nvPr/>
        </p:nvPicPr>
        <p:blipFill>
          <a:blip r:embed="rId2"/>
          <a:stretch/>
        </p:blipFill>
        <p:spPr>
          <a:xfrm>
            <a:off x="2508120" y="214200"/>
            <a:ext cx="342108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mportance of Housekeep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two most cited reasons for a guest not returning to a hotel are a dirty guest room and slow check-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om Assign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keeping departments are generally the largest in any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ntensive labor makes up a large portion of the room co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 planning begins with effective deployment of housekeepers, which begins with a review of 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ing PMS Repor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morning the housekeeping department run a series of reports from the PMS that dictate the expected guest room activity for that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reports are the same as those used by the front offi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rrivals re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eparture re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-house re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xceptions or out of order re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reports are used to direct the housekeepers for that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ing PMS Report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partures report is used to direct the housekeepers to those rooms first: these rooms get first priority to cle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rrivals report is used to allocate vacant/ready (VR) rooms for new gu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-house report lists the rooms that people are currently occupying, these rooms must also be cleaned but are lower on the priority list for the housekeep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ut of order report identifies what rooms the housekeepers should avoid as they are not suitable for sale anyw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ing PMS Report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reports are used by housekeeping to assign the workload of each housekeep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oms are assigned based on their current status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derstanding is that rooms with departing guests take longer to clean than those rooms currently occup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oms that are vacant and clean do not need to be cleaned a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er Alloc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on the number of rooms that need to be cleaned that day, the housekeeping management is said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break out the house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is process divides the rooms to be cleaned into s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ssignment of rooms to each housekeeper is called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ich usually consists of 16-18 guest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number is based on an expectation of cleaning two vacant/ready rooms per ho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keeping is said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 room when it goes through the act of cleaning it for res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er Allocation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proper allocation of housekeepers is vital to getting every room ready for occupancy by the stated check-in time (which can be anywhere from 2:00pm-5:00pm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Given that checkout time is anywhere from 10:00am-1:00pm, this span of 3-4 hours is what housekeeping is given to clean every room in the hotel on a given da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room status codes are used to gauge which rooms are ready for sale, if a guest checks out early, the housekeepers are able to prepare the room for any guest who may arrive ear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er Allocation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arrival and departure times are hard to gauge, most hotels cannot guarantee an early arrival time to guests, and often discourage guests from checking out late by using a f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ing Operation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floor supervisor is responsible for checking on the housekeepers throughout the day to remove dirty linen from their carts and to restock them with cleaning suppli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 addition to supporting the housekeepers, the person must maintain the cleanliness of the guest hallway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ing Guest Room Standar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guest room must meet the cleanliness standards set by management, the requirements may differ between configurations and design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keepers are trained to meet these requirements however random inspections are carried out to review their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ganiz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Housekeeping organizations are as varied as there are types and sizes of hotel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Executive housekeepers may occupy greater or lesser positions in any organiza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me may report directly to the general manager of chief of maintenance, while others might even hold corporate executive posi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usekeeping Manage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morning in housekeeping begins with the assignment of sections and a general discussion of issues of the 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nagers will discuss with housekeepers items that might impact them, such a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s in-ho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n early arrivals or late departures and V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mical handling guidelines/MSDS (Material Safety Data Sheet, which lists how to properly use and store the chemicals and their harmful effec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sk of the day” – also referred to as a deep clean, the managers will designate a different cleaning item to pay special attention 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urndown Serv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s that have been rated fours star and above are required to offer their gues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urndown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 process by which the guest room is made warm and inviting for the evening, which is normally conducted between 6:00pm and 9:00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urndown agent should be able to complete 40 turndowns in those three h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urndown service can entail many things and can be a very detailed process at the finest hot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urndown Service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ly, turndown service inclu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ing of drape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t mu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ner folding of bedspread away from pi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menity presentation (such as chocolates, fruits, welcome card from General Manag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ft corner lights are l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“room tidy” is conducted (which is no more than a quick cleaning such as removing rubbish liners, emptying ashtray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hotels place a breakfast door hanger next to the amenity pres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ganiz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9998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The number of floor supervisors or team leaders is dependent on the number of rooms each room attendant might be expected to clean in a perio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US standard for rooms cleaned by one room attendant in one eight-hour period varies from 13-2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 and Jobs in the Housekeeping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Various jobs one might find in a hotel housekeeping depart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Narrow"/>
              </a:rPr>
              <a:t>The executive housekeep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ssumes complete direction, operational control, and supervision of the housekeeping, laundry, and recreation departm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he housekeeping man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ssumes primary responsibility for guest room cleaning and servicing and acts as the primary assistant to the executive housekeep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 and Jobs in the Housekeeping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1812600"/>
            <a:ext cx="8763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 Narrow"/>
              </a:rPr>
              <a:t>The floor supervisor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esponsible for the quality of work performed in the sections to which their room attendants are assigned.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make inspections and report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 Narrow"/>
              </a:rPr>
              <a:t>The senior housekeeping aid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responsible for basic training of section housekeeping aid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upervision of utility housekeeping aides who might perform specific tasks such as shampooing carpets, washing windows, or performing project work.2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 and Jobs in the Housekeeping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he night supervis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sumed total control of the department after the major rooms and hotel cleaning evolution for each day has been conclu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he linen rooms supervis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charge of the main linen room operations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ponsible for maintaining and operating the communication link to the front desk, engineering, and to each guest in need of housekeeping atten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 and Jobs in the Housekeeping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676160"/>
            <a:ext cx="8686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519840" indent="-189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he laundry manag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89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sumes primary responsibility for operation of the hotel’s in-house commercial laund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89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he guest room attend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89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imarily responsible for guest room cleaning and servic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89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he section housekeeping ai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89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sumes the regular and daily cleaning of corridors, elevator cabs and landings, stairwells, service areas, floor linen rooms, vending areas, and other public spa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 and Jobs in the Housekeeping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5640"/>
            <a:ext cx="8183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Narrow"/>
              </a:rPr>
              <a:t>The laundry superviso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upervises the activities of the laundry attendants and the workload process and produ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 Narrow"/>
              </a:rPr>
              <a:t>The recreation superviso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ssumes responsibility for all recreation areas of the hot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 and Jobs in the Housekeeping Depar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570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51"/>
              </a:spcBef>
              <a:buClr>
                <a:srgbClr val="cc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ther employe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tility housekeeping a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nen room attend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bby housekeeping a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mstr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undry attend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49"/>
              </a:spcBef>
              <a:buClr>
                <a:srgbClr val="cc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usekeeping train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3T07:59:12Z</dcterms:modified>
  <cp:revision>185</cp:revision>
  <dc:subject/>
  <dc:title>FRONT OFFICE OPERATIONS MANAGEMENT</dc:title>
</cp:coreProperties>
</file>